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F3D8-D19A-4F1C-AA50-612344526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A3A5-E1D4-4769-8128-1B48D9938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eatricebiologist.com/2011/01/protists-they-make-no-sens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D884-BA60-4D59-AFA6-DCE2BC178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2/003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(see phylogenetic tree)…they are most closely related to the slime moulds. Visible on cladogram in textbook (Fig.6 p.6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545C-F57C-4AA8-BD54-75198CED2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icroscopy-uk.org.uk/mag/indexmag.html?http://www.microscopy-uk.org.uk/mag/artsep01/amoeb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99D7-5621-45A8-A515-5B4EF1D9D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CE68-E38F-46BE-9273-CBB0FE2F3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quia.com/jg/1601936lis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D518-30D9-4632-872C-73E1E9868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iaid.nih.gov/topics/Malaria/Pages/lifecycle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(see phylogenetic tree): Phylum Apicomplexa…closely related to the Cili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1DF5-D6B8-4CB5-A34A-08C65DD0C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66.147.244.104/~loveanh0/?p=10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9148-725B-4A61-A000-9931F0F14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shsapbiop2-taxa.wikispaces.com/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B131-F998-4788-82D0-4D5EFB4F8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miami.edu/dana/160/160S09_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FBB9-BF65-4974-ACF2-F075F8B8C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5A51-0D7B-4597-9219-EBE66EDDD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ookc.pbworks.com/w/page/46197520/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850D-37B8-42B5-9C1B-B318371FB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01science.com/parameciu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 of contractile vacuole: https://www.youtube.com/watch?v=9Ynm5ZOW59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2059-39C1-4E7A-8255-C058AD3EF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2/001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F313-6842-4720-839A-47EC51782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cps.edu/islandcreekes/ecology/euglen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2FC-04EC-42F7-8732-CBE8EABE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5D0-4CA2-44E4-BE2D-42D9BAED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783-55C4-40B7-99EA-BC6DD007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74C-DBE6-4158-8FF0-7DE2857D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1C05-507F-4B8E-9087-20413E23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015-4296-40B3-ACD8-32036EE4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76A-2FAA-4A16-A258-9CF2C209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C25-CD6E-4365-A5E4-34D0436D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FB0-B1AE-41DF-9F17-310733C1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2F6-1EEB-4FBA-B508-20F75F8A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406-93F5-4867-A110-32D9E11A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4E7-5C6F-4D0E-B584-1B34D38C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0C57-7895-47BB-92FA-9465B49DF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Amoebid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03 Structure of an amoeba"/>
          <p:cNvPicPr/>
          <p:nvPr/>
        </p:nvPicPr>
        <p:blipFill>
          <a:blip r:embed="rId1"/>
          <a:stretch/>
        </p:blipFill>
        <p:spPr>
          <a:xfrm>
            <a:off x="1944720" y="1981080"/>
            <a:ext cx="525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amoebaproteus450"/>
          <p:cNvPicPr/>
          <p:nvPr/>
        </p:nvPicPr>
        <p:blipFill>
          <a:blip r:embed="rId1"/>
          <a:srcRect l="4819" t="0" r="4819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10920" y="5013360"/>
            <a:ext cx="7993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this video of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oeb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gulfing 2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me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youtube.com/watch?v=pvOz4V699g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xual reproduction (binary fi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 (conjug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ellular prot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 involving formation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Alternation-of-generations-"/>
          <p:cNvPicPr/>
          <p:nvPr/>
        </p:nvPicPr>
        <p:blipFill>
          <a:blip r:embed="rId1"/>
          <a:stretch/>
        </p:blipFill>
        <p:spPr>
          <a:xfrm>
            <a:off x="2063880" y="609480"/>
            <a:ext cx="5016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lasmodiu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f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lifecycleWeb"/>
          <p:cNvPicPr/>
          <p:nvPr/>
        </p:nvPicPr>
        <p:blipFill>
          <a:blip r:embed="rId1"/>
          <a:stretch/>
        </p:blipFill>
        <p:spPr>
          <a:xfrm>
            <a:off x="2176560" y="1752480"/>
            <a:ext cx="4714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Protis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mallest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diverse…from small single-celled to large plant-like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288"/>
          <p:cNvPicPr/>
          <p:nvPr/>
        </p:nvPicPr>
        <p:blipFill>
          <a:blip r:embed="rId1"/>
          <a:stretch/>
        </p:blipFill>
        <p:spPr>
          <a:xfrm>
            <a:off x="2408400" y="1523880"/>
            <a:ext cx="4402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they come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ukaryoteorigin"/>
          <p:cNvPicPr/>
          <p:nvPr/>
        </p:nvPicPr>
        <p:blipFill>
          <a:blip r:embed="rId1"/>
          <a:stretch/>
        </p:blipFill>
        <p:spPr>
          <a:xfrm>
            <a:off x="1960560" y="1600200"/>
            <a:ext cx="5146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s of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of aquatic food pyram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s (malaria,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ver fev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&amp; food additives (nori, agar, carrageenan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Parameciid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aramecium2"/>
          <p:cNvPicPr/>
          <p:nvPr/>
        </p:nvPicPr>
        <p:blipFill>
          <a:blip r:embed="rId1"/>
          <a:stretch/>
        </p:blipFill>
        <p:spPr>
          <a:xfrm>
            <a:off x="1673280" y="1981080"/>
            <a:ext cx="5797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contractile vacuoles in actio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www.youtube.com/watch?v=9Ynm5ZOW59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parameciumdrop9_300"/>
          <p:cNvPicPr/>
          <p:nvPr/>
        </p:nvPicPr>
        <p:blipFill>
          <a:blip r:embed="rId1"/>
          <a:stretch/>
        </p:blipFill>
        <p:spPr>
          <a:xfrm>
            <a:off x="1649520" y="533520"/>
            <a:ext cx="5692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Euglen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01 Structure of a euglena"/>
          <p:cNvPicPr/>
          <p:nvPr/>
        </p:nvPicPr>
        <p:blipFill>
          <a:blip r:embed="rId1"/>
          <a:stretch/>
        </p:blipFill>
        <p:spPr>
          <a:xfrm>
            <a:off x="2308320" y="1981080"/>
            <a:ext cx="452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5L"/>
          <p:cNvPicPr/>
          <p:nvPr/>
        </p:nvPicPr>
        <p:blipFill>
          <a:blip r:embed="rId1"/>
          <a:srcRect l="5557" t="0" r="555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4941360"/>
            <a:ext cx="8136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is beautiful phase-contrast video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www.youtube.com/watch?v=jl0TzaWUQW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5:14:04Z</dcterms:created>
  <dc:creator>rubina khan</dc:creator>
  <dc:description/>
  <dc:language>en-US</dc:language>
  <cp:lastModifiedBy>rubina khan</cp:lastModifiedBy>
  <dcterms:modified xsi:type="dcterms:W3CDTF">2016-02-23T16:16:59Z</dcterms:modified>
  <cp:revision>38</cp:revision>
  <dc:subject/>
  <dc:title>The Protists</dc:title>
</cp:coreProperties>
</file>